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wmf" ContentType="image/x-wmf"/>
  <Override PartName="/ppt/media/image22.jpeg" ContentType="image/jpeg"/>
  <Override PartName="/ppt/media/image7.png" ContentType="image/png"/>
  <Override PartName="/ppt/media/image1.jpeg" ContentType="image/jpeg"/>
  <Override PartName="/ppt/media/image11.jpeg" ContentType="image/jpeg"/>
  <Override PartName="/ppt/media/image9.jpeg" ContentType="image/jpeg"/>
  <Override PartName="/ppt/media/image5.png" ContentType="image/png"/>
  <Override PartName="/ppt/media/image8.jpeg" ContentType="image/jpeg"/>
  <Override PartName="/ppt/media/image10.jpeg" ContentType="image/jpeg"/>
  <Override PartName="/ppt/media/image28.png" ContentType="image/pn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32.jpeg" ContentType="image/jpeg"/>
  <Override PartName="/ppt/media/image26.jpeg" ContentType="image/jpeg"/>
  <Override PartName="/ppt/media/image13.png" ContentType="image/png"/>
  <Override PartName="/ppt/media/image6.jpeg" ContentType="image/jpeg"/>
  <Override PartName="/ppt/media/image27.jpeg" ContentType="image/jpeg"/>
  <Override PartName="/ppt/media/image12.png" ContentType="image/pn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A92A6-4D28-46C4-A802-1CB6416F4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7957-9112-499F-A512-83E995744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ard companies know that even without income, students can carry a balance until they have an income or their parents pay off the balance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th high consumer debt are more likely to earn poorer grades, drop out of school, suffer from depression, file for bankruptcy, and work more hours to pay their bills. Credit card debt also has been linked to a number of suicides by college students, according to The Journal of Consumer Affairs, Auburn University, Al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45F4-79F5-46DD-88CF-6C05EEE46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go to a college campus, credit card offers will be everywhere.  You have to learn to walk past the tables, manned with friendly salesmen or women, offering inexpensive chotchkas in exchange for your applic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17096-A177-4034-A232-1717AC74C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ard companies most aggressively direct their marketing energies towards the 250 largest public schools, but they also target smaller schools.  This includes the threat of potential lawsuits against uncooperative universities, persuasive tactics of corporate lobbyists, major donations, and , of course, lucrative marketing contracts.  The most prominent example is the seven-year, $16.5 million deal with the University of Tennes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other nearly saturated credit card niche markets, at least one-third of the population of four-year colleges and universities is replenished each year with new students (freshmen and trans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Manning, Robert, Credit Card Nation, 2000, p 163.</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3477-1F55-4A70-BB39-753FDF1C5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eacher note:</a:t>
            </a:r>
            <a:r>
              <a:rPr b="0" lang="en-US" sz="1000" spc="-1" strike="noStrike">
                <a:solidFill>
                  <a:srgbClr val="000000"/>
                </a:solidFill>
                <a:latin typeface="Arial"/>
              </a:rPr>
              <a:t>  The excerpt below is written for parents, but when presenting this information to students, the emphasis should be on how they can ask their parents to help them prepare for managing money when they move out of the family ho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n ideal world, you would have been teaching your children the rudiments of personal finance from the time they were small, giving them an allowance to build budgeting and saving skills, helping them distinguish between needs and wants and, as they got older, imparting technical expertise, like how to balance a checkbook. At the least, teenagers ought to get a fixed weekly amount to buy their own food, entertainment and clothing, so they get used to living on a budget while still at home. "If you don't give your kid freedom to make choices with money, including stupid choices, he'll make plenty when he gets to college," says John Gardner, a senior fellow at the National Resource Center for the First-Year Experience, which focuses on freshman lif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iggest threats to budgets, say students and financial aid experts, are the innocuous little expenses that add up over time: snacks for the dorm room, dinner out with friends, a daily dose of caffeine. Imagine drinking a $4 latte five days a week, and spending $8 twice a week on pizza and drinks. That's $144 in one month--and your child hasn't even visited the laundry roo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nes, George “I Owe U,”  Money – Online, September 200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86F3-4446-4B85-9C40-1E90DDC4E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spend more money than you hav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spending into: </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eds - Quarters for the laundry machin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nts -  $1,800 for a spring break trip to Florida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pay for the wants unless you can cover the nee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nes, George “I Owe U,”  Money – Online, September 200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eds vs. W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eeds</a:t>
            </a:r>
            <a:r>
              <a:rPr b="0" lang="en-US" sz="1000" spc="-1" strike="noStrike">
                <a:solidFill>
                  <a:srgbClr val="000000"/>
                </a:solidFill>
                <a:latin typeface="Arial"/>
              </a:rPr>
              <a:t> are essential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od</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elter</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thin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iable transportation</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ants</a:t>
            </a:r>
            <a:r>
              <a:rPr b="0" lang="en-US" sz="1000" spc="-1" strike="noStrike">
                <a:solidFill>
                  <a:srgbClr val="000000"/>
                </a:solidFill>
                <a:latin typeface="Arial"/>
              </a:rPr>
              <a:t> are extra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ing ou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 expensive hous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p till you drop</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nd new or an expensive c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38CF-A97C-469E-AFCE-12EB60B06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challenge of keeping spending down, it's not surprising that many students end up with a mountain of credit-card debt. While your instinct may be to urge your child to just say no to plastic, a credit card can be a useful tool for a student--to buy a plane ticket home, for example. Paying the balance in full each month also helps your child establish a good credit record. A compromise: Greenlight a student card with a low limit, say $5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Mannes, George “I Owe U,”  Money – Online, September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ption is to add your child as an authorized user on your own credit card.  The parent gets the credit card bill every month and can monitor the student’s spending. The student then writes a check to their parent for the amount they owe or the parent can deduct it from the student’s monthly allow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A925-4A7B-44EC-B1C3-B333109AB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uthorized user</a:t>
            </a:r>
            <a:r>
              <a:rPr b="0" lang="en-US" sz="800" spc="-1" strike="noStrike">
                <a:solidFill>
                  <a:srgbClr val="000000"/>
                </a:solidFill>
                <a:latin typeface="Arial"/>
              </a:rPr>
              <a:t>:  Any person to whom you give permission to use your credit card account but who is not legally responsible for the debt but whose credit report will be positively or negatively affected by your credit history.</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ing an authorized user on someone else's credit card account certainly has its perks. But it has its problems to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get all the purchasing power you want as an authorized user, and the primary cardholder, not you, is contractually responsible for the bil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 though you never applied for the card and you're not responsible for the card's payment, the card account and its payment history may still be recorded on your credit report. Once there, the account will carry just as much weight as a card account opened in your own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ing an authorized user on a well-managed account with a long payment history could boost your credit rating. But if the account goes unpaid, your credit score could take some serious hi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unpaid account on your credit report is an unpaid account. The authorized user designation on the account hardly mat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you're an authorized user on a credit card your FICO score reflects that account in the same way a primary user's FICO score would reflect it," says Craig Watts, consumer affairs manager for Fair, Isaac and Co. based in San Rafael, Cali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lenders will even slap bankruptcy information for an account on the credit report of an authorized us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 every authorized user of a card account needs to worry about the possible hits on their credit score. The reas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 all credit card companies report account information on all authorized users to credit bureaus. For example, MBNA America only reports account information if an authorized user is a spouse.  If you're not sure of a card company's policy, go ahead and ask. But you may want to pull copies of your credit report anyway, especially if you're planning to apply for a car loan or a mortga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Lazarony, Lucy, “Dangers of being an authorized user,” Bankrate.com, April 2006.</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B1010-6E4E-4BC8-8BE3-D97C00B04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igner</a:t>
            </a:r>
            <a:r>
              <a:rPr b="0" lang="en-US" sz="1200" spc="-1" strike="noStrike">
                <a:solidFill>
                  <a:srgbClr val="000000"/>
                </a:solidFill>
                <a:latin typeface="Arial"/>
              </a:rPr>
              <a:t>:  An individual with assets who agrees to repay a loan or consumer debt if the borrower defaul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igning a loan is a very serious business; as co-signers, your parents assume as much responsibility for the car loan as you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make the payments, the black mark goes on your credit report and on their credit reports as well, and the three of you get to live with the consequences for seven long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parents do co-sign for you, tell them that you understand the responsibility they are assuming and express your appreciation for their vote of confidence. Show your gratitude by making the car payments in a timely manner and promise them that you will tell them in advance if you cannot make a payment on time. This will give them the opportunity to do what needs to be done to protect their credit r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Rosen, Dorothy, “Be honest with your co-signer,” Bankrate.com, April 2006.</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C2CC-BE1B-4FC4-829F-71F13B3B0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ed Card</a:t>
            </a:r>
            <a:r>
              <a:rPr b="0" lang="en-US" sz="800" spc="-1" strike="noStrike">
                <a:solidFill>
                  <a:srgbClr val="000000"/>
                </a:solidFill>
                <a:latin typeface="Arial"/>
              </a:rPr>
              <a:t>:  A credit card that a cardholder secures with a savings deposit to ensure payment of the outstanding balance if the cardholder defaults on payme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used by people new to credit, or people trying to rebuild their poor credit rating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who have never had credit or need to repair a poor credit history may not qualify for a regular credit card. For them, a secured credit card may be the only way to establish, or re-establish, cred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ured card is a credit card established by depositing money into an account. The account serves as security for the card; if the bill isn't paid, the money in the account may be used to cover that debt. For example, if you put $500 in the account; you can charge up to $500. You may be able to add to the deposit to add more credit, or sometimes a bank will reward you for good payments and add to your credit line without requesting additional deposi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mount you have to deposit will vary by the card. The typical minimum is $300 to $500, but you can find issuers that require $250 or less. Your credit limit will either be the amount of your deposit or some percentage above that amou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r deposit options include a savings account, money market or certificate of depos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ry secured card issuer charges an annual fee. But, avoid cards with processing or application fees. Some people have gotten a secured card only to find their entire deposit consumed with fees before ever using the car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ure to check that a secured card issuer reports to the three major credit bureaus before applying for any card. The reason for having a secured card is to build a good credit history. If the issuer doesn't report, you've lost a major benefit. Some of the smaller issuers may not, which is why it's a good idea to get a secured card from a major, reputable ban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if the issuer will flag the report to the credit bureaus as a secured card. Consumer Action, a nonprofit advocacy and education organization based in San Francisco, points out that such a flag could be a deterrent to rebuilding cred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a year of on-time payments with a secured card, you may qualify for an unsecured credit card with a lower interest rat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Baby-step your way to credit with a secured credit card,”  Bankrate.com, April 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0E189-699D-4AAC-98E9-8349E4FA9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Jungle website is dedicated to two students - Mitzi Ann Pool and Sean Moyer – who committed suicide at college because of their credit card debt.  Our goal is for students to understand the emotional impact debt can have on them and to avoid credit card debt altogether.  WE believe that teaching students about credit before they go off to college is essentia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F9F0-E041-4B81-A102-C0999C792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Jungle website is dedicated to two students - Mitzi Ann Pool and Sean Moyer – who committed suicide at college because of their credit card deb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679B1-0828-4EC7-B20E-18939421D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not have a picture of Jason Britton, but his story is in complete contrast to those of Mitzi Ann Pool and Sean Moyer. The goal of these contrasting slides is to show that there is a way out of debt while in colle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2389-5474-46F4-BAD2-C8C25A041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Source:  Higher Education Coordinating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a:t>
            </a:r>
            <a:r>
              <a:rPr b="0" lang="en-US" sz="1200" spc="-1" strike="noStrike">
                <a:solidFill>
                  <a:srgbClr val="000000"/>
                </a:solidFill>
                <a:latin typeface="Arial"/>
              </a:rPr>
              <a:t>:  Credit card companies target young adults to open credit cards either on a college campus or in many retail locations.  No matter what you do after high school, most likely a credit card will be marketed to them.  However, the focus of this presentation is for students going to a college camp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ears of saving for college, parents mail off the check for the first semester, and are ready to pack your budding scholar off to school. They think their college money worries are over.  However, the real financial aid crisis may just be starting. After years of spending under their parents’ watchful eyes, students are heading off into uncharted, unsupervised economic territory, marked by unexpected expenses, easy access to credit cards and near-infinite temptations to squander money. It all adds up to perfect conditions for financial trouble--misadventures that often climax in phone calls home begging for a bail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Mannes, George “I Owe U,”  Money – Online, September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53C0-50CB-43EA-9D68-313961D19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ising costs of higher education, coupled with decreases in many families’ liquid savings, have led to increasing dependence on educational loans and other forms of borrowing.  This contributes to a “cognitive disconnect” for students between the reality of their current incomes and what constitutes an affordable lifesty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Manning, Robert.  “Living with Debt:  A Life Stage Analysis of Changing Attitudes and Behavio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st-World War II American Dream is based upon the twin pillars of higher education (vocational, junior college, university) and homeownership.  Both entail personal sacrifice, long-term planning, and increasingly higher levels of debt.  Over the past generation, however, these exalted accoutrements of middle-class status have become increasingly difficult to achieve.  Today, baby boomers have found that homeownership requires two incomes rather than one and typically a 30-year rather than a 10 or 15-year mortgage.  Furthermore, the modest cost of the boomers’ college education stands in sharp contrast to the pricey reality of their childre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Manning, Robert, Credit Card Nation, 2000, p 16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66066-99B4-476E-9517-CD755B414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lso rely on their families for money or financial aid/loans.  When expenses exceed allowances, credit cards become the back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DF5E1-E998-408D-83F7-0129BE759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are not embracing the traditional or “old school” financial values of their parents and grandparents that place emphasis 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v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ving on a budge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f-denial</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ead, intense competitive consumption pressures on college campuses, which are exacerbated by increasingly easy access to consumer credit, has substantially increased the social acceptance of increasing levels of personal deb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tudents view use of consumer credit as a reward for their hard work at scho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Manning, Robert.  “Living with Debt:  A Life Stage Analysis of Changing Attitudes and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3966-CEF6-4E7E-AED8-ACFA773E6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widespread or formal training/education about personal finance in high schools and colleges contributes to a sense of complacency among students, who are not aware of the long-term consequences of their reliance on credit, including its effect on their credit sc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Manning, Robert.  “Living with Debt:  A Life Stage Analysis of Changing Attitudes and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O or credit sc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ard Issuers &amp; Lender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AP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Insurer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Premiu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lor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you a reliable ten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r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you a worthy hi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B4E2-7711-41CC-80F3-26DC8524D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ge Students Often Have Problems with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udents lack even the most basic money-management skills, say financial aid directors and other college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hase Education F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nes, George “I Owe U,”  Money – Online, September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85379-EE8A-4FAC-92EA-8BE07DA0A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ger a student is in college, the more students turn to pla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udents double their average credit card debt and triple the number of credit cards in their wallets – from the time they arrive on campus until grad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ge students use credit cards for a variety of reasons: dining, clothing, books, tuition, fees, and other entertainment expens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ly half of colleges allow students to charge tuition and fees, as well as other servic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 five students reports using credit cards to pay for tuition and f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igures include general-purpose credit cards as well as charge cards from gas stations and retail sto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Nellie Mae.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9E09D-3DE4-4F37-845F-771B55361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480FC-E6FE-4552-BC7A-8F9CBB59E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7A535-8832-47F1-BACF-C9FF6F74F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70243-7A48-4B84-B6F6-BB62AB1F6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2FF09-DB4C-424D-A140-C110F2E77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73162-73C2-4702-8C67-E2BAC64FB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9EF7D-8D8A-49D4-AFE3-3DBF2FF9B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9E145-8527-4B1D-B075-C10EE519D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5DC27-DCE6-4B72-8BA1-7AD44B233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81D9D-B9DE-4EDC-881F-8BB463B76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2D6FF-554A-490B-A006-AC0DC0BC8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2FB01-5356-4631-929E-6724DB626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D75C-276F-47A3-8F3C-E641BF0A4F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7"/>
          <p:cNvGrpSpPr/>
          <p:nvPr/>
        </p:nvGrpSpPr>
        <p:grpSpPr>
          <a:xfrm>
            <a:off x="720" y="6629400"/>
            <a:ext cx="9143280" cy="228600"/>
            <a:chOff x="720" y="6629400"/>
            <a:chExt cx="9143280" cy="228600"/>
          </a:xfrm>
        </p:grpSpPr>
        <p:sp>
          <p:nvSpPr>
            <p:cNvPr id="6" name="Rectangle 8"/>
            <p:cNvSpPr/>
            <p:nvPr/>
          </p:nvSpPr>
          <p:spPr>
            <a:xfrm>
              <a:off x="6827760" y="6629400"/>
              <a:ext cx="2316240" cy="228600"/>
            </a:xfrm>
            <a:prstGeom prst="rect">
              <a:avLst/>
            </a:prstGeom>
            <a:solidFill>
              <a:srgbClr val="ffd1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4512240" y="6629400"/>
              <a:ext cx="2315880" cy="228600"/>
            </a:xfrm>
            <a:prstGeom prst="rect">
              <a:avLst/>
            </a:prstGeom>
            <a:solidFill>
              <a:srgbClr val="9dba1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196360" y="6629400"/>
              <a:ext cx="2315880" cy="228600"/>
            </a:xfrm>
            <a:prstGeom prst="rect">
              <a:avLst/>
            </a:prstGeom>
            <a:solidFill>
              <a:srgbClr val="f495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720" y="6629400"/>
              <a:ext cx="2315880" cy="228600"/>
            </a:xfrm>
            <a:prstGeom prst="rect">
              <a:avLst/>
            </a:prstGeom>
            <a:solidFill>
              <a:srgbClr val="890c0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12"/>
          <p:cNvGrpSpPr/>
          <p:nvPr/>
        </p:nvGrpSpPr>
        <p:grpSpPr>
          <a:xfrm>
            <a:off x="0" y="1080"/>
            <a:ext cx="228600" cy="6856920"/>
            <a:chOff x="0" y="1080"/>
            <a:chExt cx="228600" cy="6856920"/>
          </a:xfrm>
        </p:grpSpPr>
        <p:sp>
          <p:nvSpPr>
            <p:cNvPr id="11" name="Rectangle 13"/>
            <p:cNvSpPr/>
            <p:nvPr/>
          </p:nvSpPr>
          <p:spPr>
            <a:xfrm rot="16200000">
              <a:off x="-753840" y="755280"/>
              <a:ext cx="1737000" cy="228600"/>
            </a:xfrm>
            <a:prstGeom prst="rect">
              <a:avLst/>
            </a:prstGeom>
            <a:solidFill>
              <a:srgbClr val="ffd1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4"/>
            <p:cNvSpPr/>
            <p:nvPr/>
          </p:nvSpPr>
          <p:spPr>
            <a:xfrm rot="16200000">
              <a:off x="-753840" y="2492280"/>
              <a:ext cx="1736640" cy="228600"/>
            </a:xfrm>
            <a:prstGeom prst="rect">
              <a:avLst/>
            </a:prstGeom>
            <a:solidFill>
              <a:srgbClr val="9dba17"/>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rot="16200000">
              <a:off x="-753840" y="4228920"/>
              <a:ext cx="1736640" cy="228600"/>
            </a:xfrm>
            <a:prstGeom prst="rect">
              <a:avLst/>
            </a:prstGeom>
            <a:solidFill>
              <a:srgbClr val="f49501"/>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Rectangle 16"/>
            <p:cNvSpPr/>
            <p:nvPr/>
          </p:nvSpPr>
          <p:spPr>
            <a:xfrm rot="16200000">
              <a:off x="-753840" y="5875200"/>
              <a:ext cx="1736640" cy="228600"/>
            </a:xfrm>
            <a:prstGeom prst="rect">
              <a:avLst/>
            </a:prstGeom>
            <a:solidFill>
              <a:srgbClr val="890c08"/>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creditcards.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NOW</a:t>
            </a:r>
            <a:endParaRPr b="0" lang="en-US" sz="2400" spc="-1" strike="noStrike">
              <a:solidFill>
                <a:srgbClr val="000000"/>
              </a:solidFill>
              <a:latin typeface="Arial"/>
            </a:endParaRPr>
          </a:p>
        </p:txBody>
      </p:sp>
      <p:sp>
        <p:nvSpPr>
          <p:cNvPr id="60" name=""/>
          <p:cNvSpPr txBox="1"/>
          <p:nvPr/>
        </p:nvSpPr>
        <p:spPr>
          <a:xfrm>
            <a:off x="456840" y="2174760"/>
            <a:ext cx="4040280" cy="395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know about how credit cards work? Are they useful as a financial tool, or detrimental in the long run?</a:t>
            </a:r>
            <a:endParaRPr b="0" lang="en-US" sz="3200" spc="-1" strike="noStrike">
              <a:solidFill>
                <a:srgbClr val="000000"/>
              </a:solidFill>
              <a:latin typeface="Arial"/>
            </a:endParaRPr>
          </a:p>
        </p:txBody>
      </p:sp>
      <p:sp>
        <p:nvSpPr>
          <p:cNvPr id="61" name="PlaceHolder 3"/>
          <p:cNvSpPr>
            <a:spLocks noGrp="1"/>
          </p:cNvSpPr>
          <p:nvPr>
            <p:ph/>
          </p:nvPr>
        </p:nvSpPr>
        <p:spPr>
          <a:xfrm>
            <a:off x="5101920" y="152352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erms</a:t>
            </a:r>
            <a:endParaRPr b="0" lang="en-US" sz="2400" spc="-1" strike="noStrike">
              <a:solidFill>
                <a:srgbClr val="000000"/>
              </a:solidFill>
              <a:latin typeface="Arial"/>
            </a:endParaRPr>
          </a:p>
        </p:txBody>
      </p:sp>
      <p:sp>
        <p:nvSpPr>
          <p:cNvPr id="62" name=""/>
          <p:cNvSpPr txBox="1"/>
          <p:nvPr/>
        </p:nvSpPr>
        <p:spPr>
          <a:xfrm>
            <a:off x="5790960" y="2174400"/>
            <a:ext cx="2895480" cy="3235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ment</a:t>
            </a:r>
            <a:br>
              <a:rPr sz="2400"/>
            </a:br>
            <a:r>
              <a:rPr b="0" lang="en-US" sz="2400" spc="-1" strike="noStrike">
                <a:solidFill>
                  <a:srgbClr val="000000"/>
                </a:solidFill>
                <a:latin typeface="Arial"/>
              </a:rPr>
              <a:t>Credit Rating</a:t>
            </a:r>
            <a:br>
              <a:rPr sz="2400"/>
            </a:br>
            <a:r>
              <a:rPr b="0" lang="en-US" sz="2400" spc="-1" strike="noStrike">
                <a:solidFill>
                  <a:srgbClr val="000000"/>
                </a:solidFill>
                <a:latin typeface="Arial"/>
              </a:rPr>
              <a:t>Credit Bureau</a:t>
            </a:r>
            <a:br>
              <a:rPr sz="2400"/>
            </a:br>
            <a:r>
              <a:rPr b="0" lang="en-US" sz="2400" spc="-1" strike="noStrike">
                <a:solidFill>
                  <a:srgbClr val="000000"/>
                </a:solidFill>
                <a:latin typeface="Arial"/>
              </a:rPr>
              <a:t>Finance Charge</a:t>
            </a:r>
            <a:br>
              <a:rPr sz="2400"/>
            </a:br>
            <a:r>
              <a:rPr b="0" lang="en-US" sz="2400" spc="-1" strike="noStrike">
                <a:solidFill>
                  <a:srgbClr val="000000"/>
                </a:solidFill>
                <a:latin typeface="Arial"/>
              </a:rPr>
              <a:t>Annual Percentage Rate</a:t>
            </a:r>
            <a:br>
              <a:rPr sz="2400"/>
            </a:br>
            <a:r>
              <a:rPr b="0" lang="en-US" sz="2400" spc="-1" strike="noStrike">
                <a:solidFill>
                  <a:srgbClr val="000000"/>
                </a:solidFill>
                <a:latin typeface="Arial"/>
              </a:rPr>
              <a:t>Usury</a:t>
            </a:r>
            <a:br>
              <a:rPr sz="2400"/>
            </a:br>
            <a:r>
              <a:rPr b="0" lang="en-US" sz="2400" spc="-1" strike="noStrike">
                <a:solidFill>
                  <a:srgbClr val="000000"/>
                </a:solidFill>
                <a:latin typeface="Arial"/>
              </a:rPr>
              <a:t>Bankrupt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usatoday"/>
          <p:cNvPicPr/>
          <p:nvPr/>
        </p:nvPicPr>
        <p:blipFill>
          <a:blip r:embed="rId1"/>
          <a:stretch/>
        </p:blipFill>
        <p:spPr>
          <a:xfrm>
            <a:off x="533520" y="0"/>
            <a:ext cx="8076960" cy="658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 Cards:  The “Other” Drug</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 of credit cards on campuses poses a greater threat than:</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coho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g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xually transmitted disease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with high credit card debt are more likely to:</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 poorer grad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p out of schoo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ffer from depress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for bankruptc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more hours to pay bills</a:t>
            </a:r>
            <a:endParaRPr b="0" lang="en-US" sz="1800" spc="-1" strike="noStrike">
              <a:solidFill>
                <a:srgbClr val="000000"/>
              </a:solidFill>
              <a:latin typeface="Arial"/>
            </a:endParaRPr>
          </a:p>
        </p:txBody>
      </p:sp>
      <p:pic>
        <p:nvPicPr>
          <p:cNvPr id="92" name="Picture 5" descr="citi_MTVU_visa"/>
          <p:cNvPicPr/>
          <p:nvPr/>
        </p:nvPicPr>
        <p:blipFill>
          <a:blip r:embed="rId1"/>
          <a:stretch/>
        </p:blipFill>
        <p:spPr>
          <a:xfrm>
            <a:off x="4572000" y="1905120"/>
            <a:ext cx="4191120" cy="2638440"/>
          </a:xfrm>
          <a:prstGeom prst="rect">
            <a:avLst/>
          </a:prstGeom>
          <a:ln w="0">
            <a:noFill/>
          </a:ln>
        </p:spPr>
      </p:pic>
      <p:sp>
        <p:nvSpPr>
          <p:cNvPr id="93" name="Text Box 6"/>
          <p:cNvSpPr/>
          <p:nvPr/>
        </p:nvSpPr>
        <p:spPr>
          <a:xfrm>
            <a:off x="4800600" y="4800600"/>
            <a:ext cx="380988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job?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ncome?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roblem?</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are a student, you will be approv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 Cards Offers Everywher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st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feter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hletic Ga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Un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 F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shi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bottles</a:t>
            </a:r>
            <a:endParaRPr b="0" lang="en-US" sz="2400" spc="-1" strike="noStrike">
              <a:solidFill>
                <a:srgbClr val="000000"/>
              </a:solidFill>
              <a:latin typeface="Arial"/>
            </a:endParaRPr>
          </a:p>
        </p:txBody>
      </p:sp>
      <p:pic>
        <p:nvPicPr>
          <p:cNvPr id="96" name="Picture 8" descr="freehat"/>
          <p:cNvPicPr/>
          <p:nvPr/>
        </p:nvPicPr>
        <p:blipFill>
          <a:blip r:embed="rId1"/>
          <a:stretch/>
        </p:blipFill>
        <p:spPr>
          <a:xfrm>
            <a:off x="4419720" y="3962520"/>
            <a:ext cx="2185920" cy="2185920"/>
          </a:xfrm>
          <a:prstGeom prst="rect">
            <a:avLst/>
          </a:prstGeom>
          <a:ln w="0">
            <a:noFill/>
          </a:ln>
        </p:spPr>
      </p:pic>
      <p:pic>
        <p:nvPicPr>
          <p:cNvPr id="97" name="Picture 9" descr="water-bottle"/>
          <p:cNvPicPr/>
          <p:nvPr/>
        </p:nvPicPr>
        <p:blipFill>
          <a:blip r:embed="rId2"/>
          <a:stretch/>
        </p:blipFill>
        <p:spPr>
          <a:xfrm>
            <a:off x="6477120" y="4038480"/>
            <a:ext cx="2284200" cy="2187720"/>
          </a:xfrm>
          <a:prstGeom prst="rect">
            <a:avLst/>
          </a:prstGeom>
          <a:ln w="0">
            <a:noFill/>
          </a:ln>
        </p:spPr>
      </p:pic>
      <p:pic>
        <p:nvPicPr>
          <p:cNvPr id="98" name="Picture 11" descr="collegebookstore"/>
          <p:cNvPicPr/>
          <p:nvPr/>
        </p:nvPicPr>
        <p:blipFill>
          <a:blip r:embed="rId3"/>
          <a:stretch/>
        </p:blipFill>
        <p:spPr>
          <a:xfrm>
            <a:off x="4648320" y="1600200"/>
            <a:ext cx="3733560" cy="22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tual Benefit for College &amp; Credit Card Company</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unsaturated mark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tudents every yea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card companies pay f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ship of Ev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ting Tab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nity C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Club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Picture 7" descr="students holding cards"/>
          <p:cNvPicPr/>
          <p:nvPr/>
        </p:nvPicPr>
        <p:blipFill>
          <a:blip r:embed="rId1"/>
          <a:stretch/>
        </p:blipFill>
        <p:spPr>
          <a:xfrm>
            <a:off x="4572000" y="1577880"/>
            <a:ext cx="4038480" cy="2689200"/>
          </a:xfrm>
          <a:prstGeom prst="rect">
            <a:avLst/>
          </a:prstGeom>
          <a:ln w="0">
            <a:noFill/>
          </a:ln>
        </p:spPr>
      </p:pic>
      <p:pic>
        <p:nvPicPr>
          <p:cNvPr id="102" name="Picture 8" descr="252245_4762"/>
          <p:cNvPicPr/>
          <p:nvPr/>
        </p:nvPicPr>
        <p:blipFill>
          <a:blip r:embed="rId2"/>
          <a:stretch/>
        </p:blipFill>
        <p:spPr>
          <a:xfrm>
            <a:off x="4809960" y="4343400"/>
            <a:ext cx="3267360" cy="218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ing for Managing Credit on Your Own</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inc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ance inco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ive on a budget at hom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tainmen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thing</a:t>
            </a:r>
            <a:endParaRPr b="0" lang="en-US" sz="2000" spc="-1" strike="noStrike">
              <a:solidFill>
                <a:srgbClr val="000000"/>
              </a:solidFill>
              <a:latin typeface="Arial"/>
            </a:endParaRPr>
          </a:p>
        </p:txBody>
      </p:sp>
      <p:pic>
        <p:nvPicPr>
          <p:cNvPr id="105" name="Picture 8" descr="16327737"/>
          <p:cNvPicPr/>
          <p:nvPr/>
        </p:nvPicPr>
        <p:blipFill>
          <a:blip r:embed="rId1"/>
          <a:stretch/>
        </p:blipFill>
        <p:spPr>
          <a:xfrm>
            <a:off x="5486400" y="1600200"/>
            <a:ext cx="2517840" cy="1622520"/>
          </a:xfrm>
          <a:prstGeom prst="rect">
            <a:avLst/>
          </a:prstGeom>
          <a:ln w="0">
            <a:noFill/>
          </a:ln>
        </p:spPr>
      </p:pic>
      <p:pic>
        <p:nvPicPr>
          <p:cNvPr id="106" name="Picture 12" descr="clothesshop"/>
          <p:cNvPicPr/>
          <p:nvPr/>
        </p:nvPicPr>
        <p:blipFill>
          <a:blip r:embed="rId2"/>
          <a:stretch/>
        </p:blipFill>
        <p:spPr>
          <a:xfrm>
            <a:off x="5591160" y="3581280"/>
            <a:ext cx="2244600" cy="274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ing Money in College</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spend more money than you ha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 spending into: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 Quarters for the laundry machi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nts -  $1,800 for a spring break trip to Florid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pay for the wants unless you can cover the needs</a:t>
            </a:r>
            <a:endParaRPr b="0" lang="en-US" sz="2800" spc="-1" strike="noStrike">
              <a:solidFill>
                <a:srgbClr val="000000"/>
              </a:solidFill>
              <a:latin typeface="Arial"/>
            </a:endParaRPr>
          </a:p>
        </p:txBody>
      </p:sp>
      <p:pic>
        <p:nvPicPr>
          <p:cNvPr id="109" name="Picture 7" descr="laundry"/>
          <p:cNvPicPr/>
          <p:nvPr/>
        </p:nvPicPr>
        <p:blipFill>
          <a:blip r:embed="rId1"/>
          <a:stretch/>
        </p:blipFill>
        <p:spPr>
          <a:xfrm>
            <a:off x="5029200" y="1639800"/>
            <a:ext cx="3276720" cy="2105280"/>
          </a:xfrm>
          <a:prstGeom prst="rect">
            <a:avLst/>
          </a:prstGeom>
          <a:ln w="0">
            <a:noFill/>
          </a:ln>
        </p:spPr>
      </p:pic>
      <p:pic>
        <p:nvPicPr>
          <p:cNvPr id="110" name="Picture 8" descr="floridabeach"/>
          <p:cNvPicPr/>
          <p:nvPr/>
        </p:nvPicPr>
        <p:blipFill>
          <a:blip r:embed="rId2"/>
          <a:stretch/>
        </p:blipFill>
        <p:spPr>
          <a:xfrm>
            <a:off x="5024520" y="3938760"/>
            <a:ext cx="3286080" cy="218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ing Credit in Colleg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one credit car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ized user on parents’ car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parent to cosign car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d Car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off the balance every month</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aware of intro APRs vs. annual AP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take cash adv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on tim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5" descr="4 credit cards 2"/>
          <p:cNvPicPr/>
          <p:nvPr/>
        </p:nvPicPr>
        <p:blipFill>
          <a:blip r:embed="rId1"/>
          <a:stretch/>
        </p:blipFill>
        <p:spPr>
          <a:xfrm>
            <a:off x="4800600" y="1521000"/>
            <a:ext cx="3733920" cy="2342880"/>
          </a:xfrm>
          <a:prstGeom prst="rect">
            <a:avLst/>
          </a:prstGeom>
          <a:ln w="0">
            <a:noFill/>
          </a:ln>
        </p:spPr>
      </p:pic>
      <p:pic>
        <p:nvPicPr>
          <p:cNvPr id="114" name="Picture 7" descr="writecheck"/>
          <p:cNvPicPr/>
          <p:nvPr/>
        </p:nvPicPr>
        <p:blipFill>
          <a:blip r:embed="rId2"/>
          <a:stretch/>
        </p:blipFill>
        <p:spPr>
          <a:xfrm>
            <a:off x="4952880" y="3938760"/>
            <a:ext cx="3429000" cy="2187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orized User</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cardholder, not authorized user, is legally responsible for the bi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credit score and report will reflect the primary cardholder’s actions to you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riment</a:t>
            </a:r>
            <a:endParaRPr b="0" lang="en-US" sz="2400" spc="-1" strike="noStrike">
              <a:solidFill>
                <a:srgbClr val="000000"/>
              </a:solidFill>
              <a:latin typeface="Arial"/>
            </a:endParaRPr>
          </a:p>
        </p:txBody>
      </p:sp>
      <p:pic>
        <p:nvPicPr>
          <p:cNvPr id="117" name="Picture 9" descr="authorizeduser"/>
          <p:cNvPicPr/>
          <p:nvPr/>
        </p:nvPicPr>
        <p:blipFill>
          <a:blip r:embed="rId1"/>
          <a:stretch/>
        </p:blipFill>
        <p:spPr>
          <a:xfrm>
            <a:off x="4572000" y="1676520"/>
            <a:ext cx="4038480" cy="302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igner</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ly responsible to pay consumer debt if borrower defaul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credit score and report will reflect the co-signers actions to you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rimen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 name="Picture 7" descr="cosigner"/>
          <p:cNvPicPr/>
          <p:nvPr/>
        </p:nvPicPr>
        <p:blipFill>
          <a:blip r:embed="rId1"/>
          <a:stretch/>
        </p:blipFill>
        <p:spPr>
          <a:xfrm>
            <a:off x="4952880" y="1828800"/>
            <a:ext cx="3276720" cy="1901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ed Card</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by depositing money into an acc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for card if you don’t p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card issuer reports to credit burea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have annual fees, but not all have application or proces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o a credit card after one year</a:t>
            </a:r>
            <a:endParaRPr b="0" lang="en-US" sz="2400" spc="-1" strike="noStrike">
              <a:solidFill>
                <a:srgbClr val="000000"/>
              </a:solidFill>
              <a:latin typeface="Arial"/>
            </a:endParaRPr>
          </a:p>
        </p:txBody>
      </p:sp>
      <p:pic>
        <p:nvPicPr>
          <p:cNvPr id="123" name="Picture 8" descr="card"/>
          <p:cNvPicPr/>
          <p:nvPr/>
        </p:nvPicPr>
        <p:blipFill>
          <a:blip r:embed="rId1"/>
          <a:stretch/>
        </p:blipFill>
        <p:spPr>
          <a:xfrm>
            <a:off x="4572000" y="1676520"/>
            <a:ext cx="3943440" cy="295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8840" y="1676160"/>
            <a:ext cx="342900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ling Students Credit</a:t>
            </a:r>
            <a:endParaRPr b="0" lang="en-US" sz="4400" spc="-1" strike="noStrike">
              <a:solidFill>
                <a:srgbClr val="000000"/>
              </a:solidFill>
              <a:latin typeface="Arial"/>
            </a:endParaRPr>
          </a:p>
        </p:txBody>
      </p:sp>
      <p:pic>
        <p:nvPicPr>
          <p:cNvPr id="64" name="Picture 4" descr="cj_logo_withsquares_150"/>
          <p:cNvPicPr/>
          <p:nvPr/>
        </p:nvPicPr>
        <p:blipFill>
          <a:blip r:embed="rId1"/>
          <a:stretch/>
        </p:blipFill>
        <p:spPr>
          <a:xfrm>
            <a:off x="914400" y="1600200"/>
            <a:ext cx="3619440" cy="4371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Memory of Mitzi-Ann Pool</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shman at University of Central Oklaho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d part-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redit car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0 in deb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d on 12/09/1997</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credit card bills spread out on bed</a:t>
            </a:r>
            <a:endParaRPr b="0" lang="en-US" sz="2400" spc="-1" strike="noStrike">
              <a:solidFill>
                <a:srgbClr val="000000"/>
              </a:solidFill>
              <a:latin typeface="Arial"/>
            </a:endParaRPr>
          </a:p>
        </p:txBody>
      </p:sp>
      <p:pic>
        <p:nvPicPr>
          <p:cNvPr id="126" name="Picture 4" descr="MitziPool"/>
          <p:cNvPicPr/>
          <p:nvPr/>
        </p:nvPicPr>
        <p:blipFill>
          <a:blip r:embed="rId1"/>
          <a:stretch/>
        </p:blipFill>
        <p:spPr>
          <a:xfrm>
            <a:off x="5334120" y="1600200"/>
            <a:ext cx="3193920" cy="4514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Memory of Sean Moyer</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ior at University of Oklaho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d as part-time salesman at dept. st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credit ca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 in deb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don 2/12/1998</a:t>
            </a:r>
            <a:endParaRPr b="0" lang="en-US" sz="2800" spc="-1" strike="noStrike">
              <a:solidFill>
                <a:srgbClr val="000000"/>
              </a:solidFill>
              <a:latin typeface="Arial"/>
            </a:endParaRPr>
          </a:p>
        </p:txBody>
      </p:sp>
      <p:pic>
        <p:nvPicPr>
          <p:cNvPr id="129" name="Picture 4" descr="SeanMoyer"/>
          <p:cNvPicPr/>
          <p:nvPr/>
        </p:nvPicPr>
        <p:blipFill>
          <a:blip r:embed="rId1"/>
          <a:stretch/>
        </p:blipFill>
        <p:spPr>
          <a:xfrm>
            <a:off x="5064120" y="1600200"/>
            <a:ext cx="3206880" cy="45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 Story of Jason Britton</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uated from the University of Georgeto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junior year ha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credit ca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00 in deb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d off debt b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60 hours per wee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ing with studie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2" name="Picture 4" descr="Discipline-Poster-Preview"/>
          <p:cNvPicPr/>
          <p:nvPr/>
        </p:nvPicPr>
        <p:blipFill>
          <a:blip r:embed="rId1"/>
          <a:stretch/>
        </p:blipFill>
        <p:spPr>
          <a:xfrm>
            <a:off x="4572000" y="1600200"/>
            <a:ext cx="4038480" cy="459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u="sng">
                <a:solidFill>
                  <a:srgbClr val="009999"/>
                </a:solidFill>
                <a:uFillTx/>
                <a:latin typeface="Arial"/>
                <a:hlinkClick r:id="rId1"/>
              </a:rPr>
              <a:t>http://www.creditcards.com/</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worksheet! Due Thursday, February 24</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not already, please return Video Permission forms to me!</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Wiki and send me your email address so I can register you on ENGR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Next?  Life After High School</a:t>
            </a:r>
            <a:endParaRPr b="0" lang="en-US" sz="4000" spc="-1" strike="noStrike">
              <a:solidFill>
                <a:srgbClr val="000000"/>
              </a:solidFill>
              <a:latin typeface="Arial"/>
            </a:endParaRPr>
          </a:p>
        </p:txBody>
      </p:sp>
      <p:graphicFrame>
        <p:nvGraphicFramePr>
          <p:cNvPr id="66" name="Object 3"/>
          <p:cNvGraphicFramePr/>
          <p:nvPr/>
        </p:nvGraphicFramePr>
        <p:xfrm>
          <a:off x="533520" y="325440"/>
          <a:ext cx="8305560" cy="6075360"/>
        </p:xfrm>
        <a:graphic>
          <a:graphicData uri="http://schemas.openxmlformats.org/presentationml/2006/ole">
            <p:oleObj r:id="rId1" spid="">
              <p:embed/>
              <p:pic>
                <p:nvPicPr>
                  <p:cNvPr id="67" name="Object 3" descr=""/>
                  <p:cNvPicPr/>
                  <p:nvPr/>
                </p:nvPicPr>
                <p:blipFill>
                  <a:blip r:embed="rId2"/>
                  <a:stretch/>
                </p:blipFill>
                <p:spPr>
                  <a:xfrm>
                    <a:off x="533520" y="325440"/>
                    <a:ext cx="8305560" cy="6075360"/>
                  </a:xfrm>
                  <a:prstGeom prst="rect">
                    <a:avLst/>
                  </a:prstGeom>
                  <a:ln w="0">
                    <a:noFill/>
                  </a:ln>
                </p:spPr>
              </p:pic>
            </p:oleObj>
          </a:graphicData>
        </a:graphic>
      </p:graphicFrame>
      <p:pic>
        <p:nvPicPr>
          <p:cNvPr id="68" name="Picture 4" descr="16893435"/>
          <p:cNvPicPr/>
          <p:nvPr/>
        </p:nvPicPr>
        <p:blipFill>
          <a:blip r:embed="rId3"/>
          <a:stretch/>
        </p:blipFill>
        <p:spPr>
          <a:xfrm>
            <a:off x="838080" y="4343400"/>
            <a:ext cx="2438640" cy="1623960"/>
          </a:xfrm>
          <a:prstGeom prst="rect">
            <a:avLst/>
          </a:prstGeom>
          <a:ln w="0">
            <a:noFill/>
          </a:ln>
        </p:spPr>
      </p:pic>
      <p:pic>
        <p:nvPicPr>
          <p:cNvPr id="69" name="Picture 5" descr="7693846"/>
          <p:cNvPicPr/>
          <p:nvPr/>
        </p:nvPicPr>
        <p:blipFill>
          <a:blip r:embed="rId4"/>
          <a:stretch/>
        </p:blipFill>
        <p:spPr>
          <a:xfrm>
            <a:off x="6324480" y="4343400"/>
            <a:ext cx="2440080" cy="188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tudents Use Credit Cards</a:t>
            </a:r>
            <a:endParaRPr b="0" lang="en-US" sz="4400" spc="-1" strike="noStrike">
              <a:solidFill>
                <a:srgbClr val="000000"/>
              </a:solidFill>
              <a:latin typeface="Arial"/>
            </a:endParaRPr>
          </a:p>
        </p:txBody>
      </p:sp>
      <p:pic>
        <p:nvPicPr>
          <p:cNvPr id="71" name="Picture 13" descr="increase in college costs"/>
          <p:cNvPicPr/>
          <p:nvPr/>
        </p:nvPicPr>
        <p:blipFill>
          <a:blip r:embed="rId1"/>
          <a:stretch/>
        </p:blipFill>
        <p:spPr>
          <a:xfrm>
            <a:off x="1371600" y="1209600"/>
            <a:ext cx="6400800" cy="3772080"/>
          </a:xfrm>
          <a:prstGeom prst="rect">
            <a:avLst/>
          </a:prstGeom>
          <a:ln w="0">
            <a:noFill/>
          </a:ln>
        </p:spPr>
      </p:pic>
      <p:sp>
        <p:nvSpPr>
          <p:cNvPr id="72" name="PlaceHolder 2"/>
          <p:cNvSpPr>
            <a:spLocks noGrp="1"/>
          </p:cNvSpPr>
          <p:nvPr>
            <p:ph/>
          </p:nvPr>
        </p:nvSpPr>
        <p:spPr>
          <a:xfrm>
            <a:off x="457200" y="5105160"/>
            <a:ext cx="8229600" cy="1401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t>
            </a:r>
            <a:r>
              <a:rPr b="1" i="1" lang="en-US" sz="2000" spc="-1" strike="noStrike">
                <a:solidFill>
                  <a:srgbClr val="000000"/>
                </a:solidFill>
                <a:latin typeface="Arial"/>
              </a:rPr>
              <a:t> increase</a:t>
            </a:r>
            <a:r>
              <a:rPr b="0" lang="en-US" sz="2000" spc="-1" strike="noStrike">
                <a:solidFill>
                  <a:srgbClr val="000000"/>
                </a:solidFill>
                <a:latin typeface="Arial"/>
              </a:rPr>
              <a:t> in college costs and a </a:t>
            </a:r>
            <a:r>
              <a:rPr b="1" i="1" lang="en-US" sz="2000" spc="-1" strike="noStrike">
                <a:solidFill>
                  <a:srgbClr val="000000"/>
                </a:solidFill>
                <a:latin typeface="Arial"/>
              </a:rPr>
              <a:t>decrease</a:t>
            </a:r>
            <a:r>
              <a:rPr b="0" lang="en-US" sz="2000" spc="-1" strike="noStrike">
                <a:solidFill>
                  <a:srgbClr val="000000"/>
                </a:solidFill>
                <a:latin typeface="Arial"/>
              </a:rPr>
              <a:t> in families’ liquid savings leads to a dependence on loans &amp; credit car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have a </a:t>
            </a:r>
            <a:r>
              <a:rPr b="1" i="1" lang="en-US" sz="2000" spc="-1" strike="noStrike">
                <a:solidFill>
                  <a:srgbClr val="000000"/>
                </a:solidFill>
                <a:latin typeface="Arial"/>
              </a:rPr>
              <a:t>cognitive disconnect</a:t>
            </a:r>
            <a:r>
              <a:rPr b="0" lang="en-US" sz="2000" spc="-1" strike="noStrike">
                <a:solidFill>
                  <a:srgbClr val="000000"/>
                </a:solidFill>
                <a:latin typeface="Arial"/>
              </a:rPr>
              <a:t> between th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ity of their current incomes vs. an affordable lifesty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Reasons Why Students Use Credit Card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ant their parents’ lifestyle  BUT don’t have the same financial resources.  They depend 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Ai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time 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Cards</a:t>
            </a:r>
            <a:endParaRPr b="0" lang="en-US" sz="2400" spc="-1" strike="noStrike">
              <a:solidFill>
                <a:srgbClr val="000000"/>
              </a:solidFill>
              <a:latin typeface="Arial"/>
            </a:endParaRPr>
          </a:p>
        </p:txBody>
      </p:sp>
      <p:pic>
        <p:nvPicPr>
          <p:cNvPr id="75" name="Picture 7" descr="7319435"/>
          <p:cNvPicPr/>
          <p:nvPr/>
        </p:nvPicPr>
        <p:blipFill>
          <a:blip r:embed="rId1"/>
          <a:stretch/>
        </p:blipFill>
        <p:spPr>
          <a:xfrm>
            <a:off x="5008680" y="1600200"/>
            <a:ext cx="3317760" cy="2185920"/>
          </a:xfrm>
          <a:prstGeom prst="rect">
            <a:avLst/>
          </a:prstGeom>
          <a:ln w="0">
            <a:noFill/>
          </a:ln>
        </p:spPr>
      </p:pic>
      <p:pic>
        <p:nvPicPr>
          <p:cNvPr id="76" name="Picture 8" descr="creditandcash"/>
          <p:cNvPicPr/>
          <p:nvPr/>
        </p:nvPicPr>
        <p:blipFill>
          <a:blip r:embed="rId2"/>
          <a:stretch/>
        </p:blipFill>
        <p:spPr>
          <a:xfrm>
            <a:off x="5029200" y="3867120"/>
            <a:ext cx="3276720" cy="23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umption and Credi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don’t embrace “old school” financial val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ption pressure and easy access to cred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social acceptance of deb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is a rewar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Picture 9" descr="15616584"/>
          <p:cNvPicPr/>
          <p:nvPr/>
        </p:nvPicPr>
        <p:blipFill>
          <a:blip r:embed="rId1"/>
          <a:stretch/>
        </p:blipFill>
        <p:spPr>
          <a:xfrm>
            <a:off x="5105520" y="1600200"/>
            <a:ext cx="3124080" cy="2185920"/>
          </a:xfrm>
          <a:prstGeom prst="rect">
            <a:avLst/>
          </a:prstGeom>
          <a:ln w="0">
            <a:noFill/>
          </a:ln>
        </p:spPr>
      </p:pic>
      <p:pic>
        <p:nvPicPr>
          <p:cNvPr id="80" name="Picture 14" descr="girl phone card"/>
          <p:cNvPicPr/>
          <p:nvPr/>
        </p:nvPicPr>
        <p:blipFill>
          <a:blip r:embed="rId2"/>
          <a:stretch/>
        </p:blipFill>
        <p:spPr>
          <a:xfrm>
            <a:off x="5105520" y="3962520"/>
            <a:ext cx="3124080" cy="202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term Effects of Credi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uate wit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lo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card deb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ect credit sc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er to g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 loan or insur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rtment le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tgage loa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a:t>
            </a:r>
            <a:endParaRPr b="0" lang="en-US" sz="2400" spc="-1" strike="noStrike">
              <a:solidFill>
                <a:srgbClr val="000000"/>
              </a:solidFill>
              <a:latin typeface="Arial"/>
            </a:endParaRPr>
          </a:p>
        </p:txBody>
      </p:sp>
      <p:pic>
        <p:nvPicPr>
          <p:cNvPr id="83" name="Picture 8" descr="credit score"/>
          <p:cNvPicPr/>
          <p:nvPr/>
        </p:nvPicPr>
        <p:blipFill>
          <a:blip r:embed="rId1"/>
          <a:stretch/>
        </p:blipFill>
        <p:spPr>
          <a:xfrm>
            <a:off x="5105520" y="3851280"/>
            <a:ext cx="3124080" cy="2362320"/>
          </a:xfrm>
          <a:prstGeom prst="rect">
            <a:avLst/>
          </a:prstGeom>
          <a:ln w="0">
            <a:noFill/>
          </a:ln>
        </p:spPr>
      </p:pic>
      <p:pic>
        <p:nvPicPr>
          <p:cNvPr id="84" name="Picture 9" descr="19163191"/>
          <p:cNvPicPr/>
          <p:nvPr/>
        </p:nvPicPr>
        <p:blipFill>
          <a:blip r:embed="rId2"/>
          <a:stretch/>
        </p:blipFill>
        <p:spPr>
          <a:xfrm>
            <a:off x="4952880" y="1600200"/>
            <a:ext cx="3429000" cy="218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ege Students’ Money Problems</a:t>
            </a:r>
            <a:endParaRPr b="0" lang="en-US" sz="4000" spc="-1" strike="noStrike">
              <a:solidFill>
                <a:srgbClr val="000000"/>
              </a:solidFill>
              <a:latin typeface="Arial"/>
            </a:endParaRPr>
          </a:p>
        </p:txBody>
      </p:sp>
      <p:pic>
        <p:nvPicPr>
          <p:cNvPr id="86" name="Picture 4" descr="graph1"/>
          <p:cNvPicPr/>
          <p:nvPr/>
        </p:nvPicPr>
        <p:blipFill>
          <a:blip r:embed="rId1"/>
          <a:stretch/>
        </p:blipFill>
        <p:spPr>
          <a:xfrm>
            <a:off x="1676520" y="1427040"/>
            <a:ext cx="5790960" cy="4870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 Card Use by Year</a:t>
            </a:r>
            <a:endParaRPr b="0" lang="en-US" sz="4400" spc="-1" strike="noStrike">
              <a:solidFill>
                <a:srgbClr val="000000"/>
              </a:solidFill>
              <a:latin typeface="Arial"/>
            </a:endParaRPr>
          </a:p>
        </p:txBody>
      </p:sp>
      <p:pic>
        <p:nvPicPr>
          <p:cNvPr id="88" name="Picture 4" descr="graph2"/>
          <p:cNvPicPr/>
          <p:nvPr/>
        </p:nvPicPr>
        <p:blipFill>
          <a:blip r:embed="rId1"/>
          <a:stretch/>
        </p:blipFill>
        <p:spPr>
          <a:xfrm>
            <a:off x="1676520" y="1427040"/>
            <a:ext cx="5790960" cy="487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4T18:28:30Z</dcterms:created>
  <dc:creator>Nicole Schmauder</dc:creator>
  <dc:description/>
  <dc:language>en-US</dc:language>
  <cp:lastModifiedBy>Mike</cp:lastModifiedBy>
  <dcterms:modified xsi:type="dcterms:W3CDTF">2011-02-23T19:41:41Z</dcterms:modified>
  <cp:revision>30</cp:revision>
  <dc:subject/>
  <dc:title>Slide 1</dc:title>
</cp:coreProperties>
</file>